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21.gif" ContentType="image/gif"/>
  <Override PartName="/ppt/media/image20.gif" ContentType="image/gi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D217B-F911-45D2-AB83-95654A414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900C-8454-46D5-ADC7-067045345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5095BB-D4C6-4FC9-91A0-735A7B29F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541715-9D7F-43EE-B9D7-EC112309D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9AA933-E840-40FC-8ADB-98EE68F19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633ABE-28F3-439E-9605-0E1DE97CB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DF87B8C-777A-4899-8AA0-8B4C8B38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EFC8C23-D4E8-4D9F-862A-3B5EF0E8D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7CF499-7A7E-4976-8413-3BA2F901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1A3F80-BDDB-4918-B339-2C5418C6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C6D027-30C4-48E9-833C-F23FC67DF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995407E-FEDF-4DC8-B100-0E6909A09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781D-7A53-4372-81E7-8925DBF2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7722D0F-A991-4107-B0DE-B0BE5FCEC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A042EF-F0DB-4901-8955-BC1276C3E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F98A2-3375-49CA-B883-F71A8A100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0BE9F8-2FE4-406F-B4AD-26F7BF370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0CE249-37E5-4563-80A5-203149A56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A317B4-B909-4EEF-93D4-A23F3F7B8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CE7E30-A744-47C7-954A-40AB462A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4E3E84-5778-4FAE-9317-861C794C5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32F929-3893-4F3E-9ED3-54CC7D507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FFA476C-EF61-4724-B75C-3F33693AA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66DA-C0ED-4A8D-AC74-ABB719E7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C399039-26A9-4C6A-971E-DA76A7C60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34B8A1-BB90-4806-BADA-5BC587BB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885BC9-52CD-4C41-A5AF-B27BC6DB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AB8546-7369-45FD-A635-9039462C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52F70E-29D5-41D4-BE21-6E51B7BD3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14EEFC-81C5-4551-A119-937AA317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C75141-9D01-4BDB-A83C-DADCA4C7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37892C-F8B8-46D5-9DFC-7F0697095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B938D5-D649-4119-8005-76ACB27DD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2FF13A-5CDF-4A7E-AAC7-4D9A0977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BC1C7-3261-4C26-99A2-AF9F019FF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39D2F0-F15A-40BE-B483-8771999E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FF088E-3507-4AA4-98F9-A1B7290A1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77196E-11FD-4C23-B400-6D13C690E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990F4E2-DD45-4382-A9D9-9B91F4B05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0CBBD19-201F-487A-B536-225AFEC47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E98BF4-9D0E-466D-837C-DE386B5E7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4FAD587-2487-4D65-A21D-6EF37F474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7B18A6D-F2B9-42F3-9750-7BADFA991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DE2E66-E3E1-4FB4-85A2-75C0E2EAB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6B7E902-D49B-4161-8657-4D428C902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B407-71F5-476F-8B7D-99C50458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016F11-8DC7-44B8-B404-2C5B74C7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830A6D-DCDF-4E63-AA6C-418C9439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6AE84B-D91C-4BCA-9801-317062133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440DD1A-95E5-49AD-B51B-23B20F070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3BFB41-D568-4438-9766-191B2362F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7BF8-053A-4371-8C53-1EFE2E4FB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151DA-E586-4804-95A6-C14C8E82C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7CD8-8D16-404B-AB63-BAEB955C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C5568-D161-446C-9466-93BB32F51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C6CA4-B8A5-4829-A638-7C2426F2C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2875-E668-4066-835D-A4B430862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DF5C-FC48-409F-9F0C-F2FB288D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3C02-57CB-45A0-BE4A-2995DFE0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51018-B79D-4FDD-B9B4-7660C218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400AB-AC44-4592-9046-487BE9823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D5341-B63A-4829-AE92-DE3801D7C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2F158B-AC66-4CE2-AC7C-46DB0758C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9242DD-ACB8-4AA4-BBC9-A23D91FA0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EA80D6-00F1-44B4-BDB7-9025D275A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ECE4D-EDC7-466A-90AA-FDBAA7B81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A44BB-FBD8-4506-8436-F47797FAB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F49A-43C7-4E3B-9840-500A4AF6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BDE27-A870-493C-A0DF-03438D7EF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2E3C95-5F04-4ABF-BE44-D388066A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B35BEC-E0DD-45E5-B320-A43A6C0C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607F93-C4F9-48CE-8EFB-C66870144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1BCCF2-FC01-40B6-A8C5-C294FB2C6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A2BB9-F04C-4994-9452-1B039E5F1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44AE2-2F82-4A38-829A-796DD92618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B043A7-6E31-45E4-89FE-75F1F999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674206-FC39-460F-90BA-3063B1F1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E235BA-A742-4096-9D1B-547AFF9CC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1E87-BA81-427B-B11F-BE3E1FD99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D98357-8B88-4A74-96D1-01F3A75A5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C1424-41DE-4275-9C81-165D59B26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932121-10EF-4BF0-8E21-A43863F04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A2CFBF-1160-4550-8199-1AB2D2B94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2A37E-C5CD-48DA-AC64-3C9BDBBD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B6B9F-8715-4AFE-B364-255BBD56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C4698-D44C-4131-9191-9A79CE1E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AA0D5C-2281-497C-AD0E-516D63D7C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74E78B-595C-481C-BE0B-AD8E61A30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ED8353-3257-4252-ADD4-4AA8AF86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FE07-FB4A-461F-BFA8-92EBF4F4C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846694-A36F-466B-80DE-7D095799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319064-D993-44C5-B4C5-8413DD74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E1FD4-2530-4A98-AEDF-3158B380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138561-C633-43B9-A221-66168C288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4064A-31B9-448F-B1C1-406422F3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875E7A-282E-4A50-9747-B60B1E3A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42EE8-0D72-495F-8C82-31DACB87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FCDBF-A24D-4707-B923-84671987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E4BE1B-3B13-44EC-972B-B6F2D9257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D8BE32-2C4F-4D00-9A2C-2F5536879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22CE-BA84-41D3-B645-E2AA5FCF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59A0E-8ED3-471E-81C6-1EB0109DF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DCA8D6-670D-4912-AEC0-DDA2F180B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F5E3E4-521F-4E36-B836-F89948640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C53AE2-FBEC-4F0A-A0CF-696DF7928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87FFC-8B67-460D-A6E0-7BCAA8E3D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32979F-0C82-43FB-AF90-30DE3E7F3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A9DD4-AE9F-4F83-96AB-F337A20F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5DB35-DBE8-43C9-A5A0-690FE486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26B351-7DD5-4BA9-87E4-08B00FD80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D97FF6-79E8-4580-A067-9FEF8BE2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6770-7360-4734-91C2-AD4575BC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8950F0-9E0B-4179-8FA3-44392F829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AF28D7-98DF-4BC0-ABDF-54A135E1A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65504-5C84-48D5-976E-161C90B9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78B681-C764-43EE-BE66-86DA821A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C03EB-3B8E-41BF-BB02-307AF1CB1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F8B2D8-2D03-4BE5-A8A6-6E717819F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8DFBCC-4AEA-49E3-A5F8-97B5AD6D8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4774D1-3032-4134-9091-2E11263A1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B25B91-1DE0-4D13-8F4A-A5D685BE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9A26D-5A6C-466E-AEF1-0241F1DF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AE096-BAF2-45D6-BABA-7DB4E11F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F7B531-33AF-46D7-914B-A4D114A31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FE0DA3-FEA8-450D-961A-D1585FE5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74A5B-9271-47A3-B937-AF8B3C5E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4207B0-0DEC-4298-B8E3-F75E36A8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23E7AC-9B2E-4CB7-8731-1D84B0EC6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1312C-188B-41DF-89C2-0DAD07361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583923-EBEF-4AB5-8B3C-D1E343A19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8E03A-3AD6-4E57-85FB-ACE83E41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6AEB29-1072-44C3-9565-CDD23A14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8B4A86-E03A-4F15-B95E-D03B811A6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5572-973F-4DC7-82D0-919368F7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7D298-8E6E-4962-BF4B-58F831F7F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05ED7-ADE3-4998-91C4-EEF4EA404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79E1B-C146-48A5-BEE1-D963107A2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A58C31-DA72-47E9-85AE-C93AAD1A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E1A789-564B-4053-A5B9-BBAC3334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FFBAF5-05B7-4BFB-818C-4279E7897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E702E-C88F-49F1-BF4B-EE39E7AD8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21B7C2-6D1C-49FD-8A43-D2264075B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CC5320B-0885-409C-9722-0EF7302AD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74F406-68F5-4163-A519-411CA1450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EB18F-62D8-4546-B0E1-16CB9F354F1A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76CD-EFA8-461C-8DE5-AE3661F54258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80762-DDAE-40B9-920A-E93947B43FD6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53AE-7604-486D-8C3B-4C0B6C8F8044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D0DAC-A124-4E50-AAA1-53A1F56374D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07ED-EE15-4B61-A989-787F0EA0C213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22863-32A6-44FC-80AD-22BBACDBE970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3BA29-EAAE-47F7-803C-380284D9B25C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03969-EF55-4605-97AF-B6FE64F3B2FE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80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8080" cy="1184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8080" cy="1184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80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80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80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808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80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808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808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2007-1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BCC95-D042-44BA-A967-57D6E6851D8D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06FB7-DA48-4523-92D1-ACAE9C95C76C}" type="slidenum">
              <a:rPr b="0" lang="ko-KR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CF0B7-A075-45D4-82E7-E2F5C80EA7C2}" type="slidenum">
              <a:rPr b="0" lang="ko-KR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365120"/>
            <a:ext cx="7218360" cy="49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가 호기성 조건에서 생분해성 유기물을 안정화시키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데 필요한 </a:t>
            </a:r>
            <a:r>
              <a:rPr b="1" lang="ko-KR" sz="1800" spc="-1" strike="noStrike">
                <a:solidFill>
                  <a:srgbClr val="0000ff"/>
                </a:solidFill>
                <a:latin typeface="HY그래픽"/>
                <a:ea typeface="HY그래픽"/>
              </a:rPr>
              <a:t>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Bioassay procedure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오염도가 높은 폐수의 경우 적절한 희석 필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 배제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박테리아 성장에 필요한 영양소 공급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및 특정 미량원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인 유기물 산화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조건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℃,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0~80%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이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1636920" y="326880"/>
            <a:ext cx="540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수질오염요소설계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#1: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처리단계별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변화추이 파악 및 제어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4" name="Object 24"/>
          <p:cNvGraphicFramePr/>
          <p:nvPr/>
        </p:nvGraphicFramePr>
        <p:xfrm>
          <a:off x="1258920" y="4265640"/>
          <a:ext cx="640872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5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4265640"/>
                    <a:ext cx="64087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108"/>
          <p:cNvSpPr/>
          <p:nvPr/>
        </p:nvSpPr>
        <p:spPr>
          <a:xfrm>
            <a:off x="1377000" y="909720"/>
            <a:ext cx="510084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액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의 상등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천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추출액 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가정하수가 가장 많이 사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합류식 하수관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신선한 생하수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실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4~3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정도 방치한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이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Text Box 109"/>
          <p:cNvSpPr/>
          <p:nvPr/>
        </p:nvSpPr>
        <p:spPr>
          <a:xfrm>
            <a:off x="1401840" y="3068640"/>
            <a:ext cx="465912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신뢰성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의 산소소모량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요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 산소의 농도가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최소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0.5mg/L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이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소의 소모 농도가 대략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2~7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 되어야 함을 의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5"/>
          <p:cNvSpPr/>
          <p:nvPr/>
        </p:nvSpPr>
        <p:spPr>
          <a:xfrm>
            <a:off x="1206720" y="642960"/>
            <a:ext cx="33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희석율과 측정 가능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범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5" name=""/>
          <p:cNvGraphicFramePr/>
          <p:nvPr/>
        </p:nvGraphicFramePr>
        <p:xfrm>
          <a:off x="1042920" y="1290600"/>
          <a:ext cx="6769080" cy="4603680"/>
        </p:xfrm>
        <a:graphic>
          <a:graphicData uri="http://schemas.openxmlformats.org/drawingml/2006/table">
            <a:tbl>
              <a:tblPr/>
              <a:tblGrid>
                <a:gridCol w="1692360"/>
                <a:gridCol w="1692360"/>
                <a:gridCol w="1692000"/>
                <a:gridCol w="1692360"/>
              </a:tblGrid>
              <a:tr h="307080"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혼합물을 사용할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300ml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병에 피펫으로 직접 넣을 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의 혼합비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%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시료부피 </a:t>
                      </a: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BOD </a:t>
                      </a:r>
                      <a:r>
                        <a:rPr b="1" lang="ko-KR" sz="1400" spc="-1" strike="noStrike">
                          <a:solidFill>
                            <a:srgbClr val="ffffff"/>
                          </a:solidFill>
                          <a:latin typeface="HY그래픽"/>
                          <a:ea typeface="HY그래픽"/>
                        </a:rPr>
                        <a:t>범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94f0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,000~70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,000~10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,000~35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,000~42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,000~14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,000~21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,000~7,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,000~10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000~3,5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,200~4,2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0~1,4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0~2,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0~7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~1,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~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0~4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~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~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~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~10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~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2~4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~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~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~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6" name="Text Box 5"/>
          <p:cNvSpPr/>
          <p:nvPr/>
        </p:nvSpPr>
        <p:spPr>
          <a:xfrm>
            <a:off x="1770480" y="5877000"/>
            <a:ext cx="33138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* 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시료의 혼합</a:t>
            </a:r>
            <a:r>
              <a:rPr b="1" lang="en-US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&amp;</a:t>
            </a:r>
            <a:r>
              <a:rPr b="1" lang="ko-KR" sz="1400" spc="-1" strike="noStrike">
                <a:solidFill>
                  <a:srgbClr val="ff0000"/>
                </a:solidFill>
                <a:latin typeface="HY그래픽"/>
                <a:ea typeface="HY그래픽"/>
              </a:rPr>
              <a:t>첨가 과정을 설계보고서에 상세히 기술할 것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5"/>
          <p:cNvSpPr/>
          <p:nvPr/>
        </p:nvSpPr>
        <p:spPr>
          <a:xfrm>
            <a:off x="1584720" y="785880"/>
            <a:ext cx="53107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양병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BOD bottle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공된 유리마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Water seal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능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의 세척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세척제 이용 세척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돗물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이상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증류수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회 행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7" descr="BOD 병1"/>
          <p:cNvPicPr/>
          <p:nvPr/>
        </p:nvPicPr>
        <p:blipFill>
          <a:blip r:embed="rId1"/>
          <a:stretch/>
        </p:blipFill>
        <p:spPr>
          <a:xfrm>
            <a:off x="1403280" y="2801880"/>
            <a:ext cx="2952720" cy="295272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8" descr="BOD 병2"/>
          <p:cNvPicPr/>
          <p:nvPr/>
        </p:nvPicPr>
        <p:blipFill>
          <a:blip r:embed="rId2"/>
          <a:stretch/>
        </p:blipFill>
        <p:spPr>
          <a:xfrm>
            <a:off x="4140360" y="2801880"/>
            <a:ext cx="2881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Text Box 4"/>
          <p:cNvSpPr/>
          <p:nvPr/>
        </p:nvSpPr>
        <p:spPr>
          <a:xfrm>
            <a:off x="712800" y="692280"/>
            <a:ext cx="133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1329480" y="1157400"/>
            <a:ext cx="4946760" cy="13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7"/>
          <p:cNvSpPr/>
          <p:nvPr/>
        </p:nvSpPr>
        <p:spPr>
          <a:xfrm>
            <a:off x="1595520" y="2514600"/>
            <a:ext cx="398088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되지 않은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비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8"/>
          <p:cNvSpPr/>
          <p:nvPr/>
        </p:nvSpPr>
        <p:spPr>
          <a:xfrm>
            <a:off x="1471680" y="414972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34" name="Object 9"/>
          <p:cNvGraphicFramePr/>
          <p:nvPr/>
        </p:nvGraphicFramePr>
        <p:xfrm>
          <a:off x="1535040" y="1590840"/>
          <a:ext cx="2352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5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35040" y="1590840"/>
                    <a:ext cx="2352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6" name="Object 10"/>
          <p:cNvGraphicFramePr/>
          <p:nvPr/>
        </p:nvGraphicFramePr>
        <p:xfrm>
          <a:off x="1547640" y="2981160"/>
          <a:ext cx="241164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37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2981160"/>
                    <a:ext cx="241164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38" name="Object 11"/>
          <p:cNvGraphicFramePr/>
          <p:nvPr/>
        </p:nvGraphicFramePr>
        <p:xfrm>
          <a:off x="1577880" y="4684680"/>
          <a:ext cx="378612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9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577880" y="468468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직사각형 8"/>
          <p:cNvSpPr/>
          <p:nvPr/>
        </p:nvSpPr>
        <p:spPr>
          <a:xfrm>
            <a:off x="3309840" y="5373720"/>
            <a:ext cx="4658040" cy="73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 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=1-P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Text Box 5"/>
          <p:cNvSpPr/>
          <p:nvPr/>
        </p:nvSpPr>
        <p:spPr>
          <a:xfrm>
            <a:off x="1471680" y="981000"/>
            <a:ext cx="35618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에 의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된 희석수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42" name="Object 6"/>
          <p:cNvGraphicFramePr/>
          <p:nvPr/>
        </p:nvGraphicFramePr>
        <p:xfrm>
          <a:off x="1577880" y="1515960"/>
          <a:ext cx="3786120" cy="62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3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7880" y="1515960"/>
                    <a:ext cx="378612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4" name="Object 7"/>
          <p:cNvGraphicFramePr/>
          <p:nvPr/>
        </p:nvGraphicFramePr>
        <p:xfrm>
          <a:off x="2987640" y="2217600"/>
          <a:ext cx="2830680" cy="62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87640" y="2217600"/>
                    <a:ext cx="2830680" cy="62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6" name="Object 8"/>
          <p:cNvGraphicFramePr/>
          <p:nvPr/>
        </p:nvGraphicFramePr>
        <p:xfrm>
          <a:off x="2987640" y="2997360"/>
          <a:ext cx="3270240" cy="62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7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7640" y="2997360"/>
                    <a:ext cx="327024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48" name="Object 9"/>
          <p:cNvGraphicFramePr/>
          <p:nvPr/>
        </p:nvGraphicFramePr>
        <p:xfrm>
          <a:off x="3024360" y="3776760"/>
          <a:ext cx="1017360" cy="620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49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24360" y="3776760"/>
                    <a:ext cx="1017360" cy="62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0" name="Text Box 11"/>
          <p:cNvSpPr/>
          <p:nvPr/>
        </p:nvSpPr>
        <p:spPr>
          <a:xfrm>
            <a:off x="2586240" y="4595760"/>
            <a:ext cx="424944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0.1~0.2mg/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유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D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포화상태를 위해 포기시킬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값이 매우 비슷해짐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5"/>
          <p:cNvSpPr/>
          <p:nvPr/>
        </p:nvSpPr>
        <p:spPr>
          <a:xfrm>
            <a:off x="611280" y="1052640"/>
            <a:ext cx="7129440" cy="4248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기 다른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l 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에 시료를 각각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, 5ml, 10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가하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 희석수로 가득 채운 후에 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측정하고자 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일한 희석수를 가득 채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를 바탕시험으로 하였으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0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℃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간 배양하였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배양하기 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의 용존 산소 측정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다음과 같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2" name=""/>
          <p:cNvGraphicFramePr/>
          <p:nvPr/>
        </p:nvGraphicFramePr>
        <p:xfrm>
          <a:off x="1284120" y="2933640"/>
          <a:ext cx="6096240" cy="173520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338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시료의 양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초기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일 후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DO (mg/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98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바탕시험 평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8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Rectangle 5"/>
          <p:cNvSpPr/>
          <p:nvPr/>
        </p:nvSpPr>
        <p:spPr>
          <a:xfrm>
            <a:off x="611280" y="981000"/>
            <a:ext cx="7129440" cy="41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초기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보다 최소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 낮게 측정되어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며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에 남아 있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는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5mg/L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어야 하므로 이를 만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수 있는 것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를 취한 경우만이 해당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시료에 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해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식을 적용하면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m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시료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두 실험의 </a:t>
            </a:r>
            <a:r>
              <a:rPr b="0" lang="ko-KR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평균치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</a:t>
            </a:r>
            <a:r>
              <a:rPr b="1" lang="en-US" sz="1600" spc="-1" strike="noStrike">
                <a:solidFill>
                  <a:srgbClr val="ff0066"/>
                </a:solidFill>
                <a:latin typeface="HY그래픽"/>
                <a:ea typeface="HY그래픽"/>
              </a:rPr>
              <a:t>356mg/L</a:t>
            </a:r>
            <a:r>
              <a:rPr b="0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된다</a:t>
            </a:r>
            <a:r>
              <a:rPr b="0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54" name="Object 6"/>
          <p:cNvGraphicFramePr/>
          <p:nvPr/>
        </p:nvGraphicFramePr>
        <p:xfrm>
          <a:off x="1979640" y="2852640"/>
          <a:ext cx="5537160" cy="56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5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85264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6" name="Object 7"/>
          <p:cNvGraphicFramePr/>
          <p:nvPr/>
        </p:nvGraphicFramePr>
        <p:xfrm>
          <a:off x="1979640" y="3678120"/>
          <a:ext cx="553716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5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79640" y="3678120"/>
                    <a:ext cx="553716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Text Box 4"/>
          <p:cNvSpPr/>
          <p:nvPr/>
        </p:nvSpPr>
        <p:spPr>
          <a:xfrm>
            <a:off x="913320" y="571680"/>
            <a:ext cx="2004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대상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9" name="Text Box 6"/>
          <p:cNvSpPr/>
          <p:nvPr/>
        </p:nvSpPr>
        <p:spPr>
          <a:xfrm>
            <a:off x="1547280" y="1036800"/>
            <a:ext cx="25059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근 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0" name="Text Box 6"/>
          <p:cNvSpPr/>
          <p:nvPr/>
        </p:nvSpPr>
        <p:spPr>
          <a:xfrm>
            <a:off x="1496520" y="1420920"/>
            <a:ext cx="203148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61" name="Picture 4" descr="su_map1"/>
          <p:cNvPicPr/>
          <p:nvPr/>
        </p:nvPicPr>
        <p:blipFill>
          <a:blip r:embed="rId1"/>
          <a:stretch/>
        </p:blipFill>
        <p:spPr>
          <a:xfrm>
            <a:off x="857160" y="278604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62" name="Picture 5" descr="su_map2"/>
          <p:cNvPicPr/>
          <p:nvPr/>
        </p:nvPicPr>
        <p:blipFill>
          <a:blip r:embed="rId2"/>
          <a:stretch/>
        </p:blipFill>
        <p:spPr>
          <a:xfrm>
            <a:off x="3929040" y="4357800"/>
            <a:ext cx="4549680" cy="14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Text Box 6"/>
          <p:cNvSpPr/>
          <p:nvPr/>
        </p:nvSpPr>
        <p:spPr>
          <a:xfrm>
            <a:off x="1521720" y="714240"/>
            <a:ext cx="2490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분석 후 결과 및 토의사항 정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4" name="Text Box 6"/>
          <p:cNvSpPr/>
          <p:nvPr/>
        </p:nvSpPr>
        <p:spPr>
          <a:xfrm>
            <a:off x="2257920" y="1098720"/>
            <a:ext cx="520776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터넷디스크에서 양식 다운로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일기 작성 금지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제발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HY그래픽"/>
                <a:ea typeface="HY그래픽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 결과를 참고문헌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국내외 논문 등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및 인터넷 검색자료와 비교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현장 샘플링 사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과정 사진 등을 보고서 작성에 적극 활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원별 역할 분담 명확히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Text Box 4"/>
          <p:cNvSpPr/>
          <p:nvPr/>
        </p:nvSpPr>
        <p:spPr>
          <a:xfrm>
            <a:off x="1477800" y="571680"/>
            <a:ext cx="5224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물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저감방안 실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추후 공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고민할 것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6" name="Text Box 6"/>
          <p:cNvSpPr/>
          <p:nvPr/>
        </p:nvSpPr>
        <p:spPr>
          <a:xfrm>
            <a:off x="2057400" y="1036800"/>
            <a:ext cx="5338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방법이 아닌 물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화학적 방법에 의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저감할 수 있는 방안에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대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검토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7" name="Text Box 6"/>
          <p:cNvSpPr/>
          <p:nvPr/>
        </p:nvSpPr>
        <p:spPr>
          <a:xfrm>
            <a:off x="1992960" y="1862280"/>
            <a:ext cx="437544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향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지의 시료에 대해 목표 달성 실험 및 발표가 실시될 수 있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조별 경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4"/>
          <p:cNvSpPr/>
          <p:nvPr/>
        </p:nvSpPr>
        <p:spPr>
          <a:xfrm>
            <a:off x="611280" y="914400"/>
            <a:ext cx="7129440" cy="122400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어떤 시료의 생물학적 분해가능 유기물질의 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물질의 경험적인 분자식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라고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할 때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물질의 산소 당량농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얼마인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Rectangle 5"/>
          <p:cNvSpPr/>
          <p:nvPr/>
        </p:nvSpPr>
        <p:spPr>
          <a:xfrm>
            <a:off x="611280" y="2211480"/>
            <a:ext cx="7129440" cy="3954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혹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함유된 유기물질의 분자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27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산화시키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위해 필요한 산소량은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6.75(32)=216g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유기물질의 산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량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= 37/127 (216) = 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시료의 산소당량 또는 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최종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BOD</a:t>
            </a:r>
            <a:r>
              <a:rPr b="1" lang="ko-KR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는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63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정하수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C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N)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당량은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88" name="Object 9"/>
          <p:cNvGraphicFramePr/>
          <p:nvPr/>
        </p:nvGraphicFramePr>
        <p:xfrm>
          <a:off x="1116000" y="2603520"/>
          <a:ext cx="6264360" cy="63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603520"/>
                    <a:ext cx="626436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10"/>
          <p:cNvGraphicFramePr/>
          <p:nvPr/>
        </p:nvGraphicFramePr>
        <p:xfrm>
          <a:off x="1763640" y="3381480"/>
          <a:ext cx="4237200" cy="33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3640" y="3381480"/>
                    <a:ext cx="4237200" cy="3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11"/>
          <p:cNvSpPr/>
          <p:nvPr/>
        </p:nvSpPr>
        <p:spPr>
          <a:xfrm>
            <a:off x="671400" y="333360"/>
            <a:ext cx="1965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반응의 특성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0"/>
          <p:cNvSpPr/>
          <p:nvPr/>
        </p:nvSpPr>
        <p:spPr>
          <a:xfrm>
            <a:off x="1012680" y="1052640"/>
            <a:ext cx="3201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에 따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변화         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5"/>
          <p:cNvGraphicFramePr/>
          <p:nvPr/>
        </p:nvGraphicFramePr>
        <p:xfrm>
          <a:off x="1187280" y="1658880"/>
          <a:ext cx="1155960" cy="6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5" name="Object 1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658880"/>
                    <a:ext cx="1155960" cy="6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16"/>
          <p:cNvGraphicFramePr/>
          <p:nvPr/>
        </p:nvGraphicFramePr>
        <p:xfrm>
          <a:off x="2484360" y="1628640"/>
          <a:ext cx="137484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7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84360" y="1628640"/>
                    <a:ext cx="13748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8" name="Text Box 17"/>
          <p:cNvSpPr/>
          <p:nvPr/>
        </p:nvSpPr>
        <p:spPr>
          <a:xfrm>
            <a:off x="1168200" y="2513160"/>
            <a:ext cx="2130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y)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9" name="Object 18"/>
          <p:cNvGraphicFramePr/>
          <p:nvPr/>
        </p:nvGraphicFramePr>
        <p:xfrm>
          <a:off x="1332000" y="3214800"/>
          <a:ext cx="2531880" cy="379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00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32000" y="3214800"/>
                    <a:ext cx="253188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1" name="Text Box 19"/>
          <p:cNvSpPr/>
          <p:nvPr/>
        </p:nvSpPr>
        <p:spPr>
          <a:xfrm>
            <a:off x="1447200" y="3870360"/>
            <a:ext cx="29826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y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실험에서 측정된 값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Text Box 15"/>
          <p:cNvSpPr/>
          <p:nvPr/>
        </p:nvSpPr>
        <p:spPr>
          <a:xfrm>
            <a:off x="1162440" y="942840"/>
            <a:ext cx="539784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의 영향인자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까지의 산소소모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보통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arbonaceous 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주 원인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10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이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에 의한 산소소모 발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산화가 일어난 시기와 정도 파악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3" name="Object 16"/>
          <p:cNvGraphicFramePr/>
          <p:nvPr/>
        </p:nvGraphicFramePr>
        <p:xfrm>
          <a:off x="1476360" y="2924280"/>
          <a:ext cx="4586400" cy="37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4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924280"/>
                    <a:ext cx="45864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5" name="Object 17"/>
          <p:cNvGraphicFramePr/>
          <p:nvPr/>
        </p:nvGraphicFramePr>
        <p:xfrm>
          <a:off x="1679400" y="3624120"/>
          <a:ext cx="2892600" cy="37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6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9400" y="3624120"/>
                    <a:ext cx="2892600" cy="3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줄무늬가 있는 오른쪽 화살표 4"/>
          <p:cNvSpPr/>
          <p:nvPr/>
        </p:nvSpPr>
        <p:spPr>
          <a:xfrm rot="5400000">
            <a:off x="2987640" y="4221000"/>
            <a:ext cx="720720" cy="720720"/>
          </a:xfrm>
          <a:custGeom>
            <a:avLst/>
            <a:gdLst>
              <a:gd name="textAreaLeft" fmla="*/ 112320 w 720720"/>
              <a:gd name="textAreaRight" fmla="*/ 540720 w 72072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720080" h="720080">
                <a:moveTo>
                  <a:pt x="0" y="180020"/>
                </a:moveTo>
                <a:lnTo>
                  <a:pt x="22503" y="180020"/>
                </a:lnTo>
                <a:lnTo>
                  <a:pt x="22503" y="540060"/>
                </a:lnTo>
                <a:lnTo>
                  <a:pt x="0" y="540060"/>
                </a:lnTo>
                <a:close/>
                <a:moveTo>
                  <a:pt x="45005" y="180020"/>
                </a:moveTo>
                <a:lnTo>
                  <a:pt x="90010" y="180020"/>
                </a:lnTo>
                <a:lnTo>
                  <a:pt x="90010" y="540060"/>
                </a:lnTo>
                <a:lnTo>
                  <a:pt x="45005" y="540060"/>
                </a:lnTo>
                <a:close/>
                <a:moveTo>
                  <a:pt x="112512" y="180020"/>
                </a:moveTo>
                <a:lnTo>
                  <a:pt x="360040" y="180020"/>
                </a:lnTo>
                <a:lnTo>
                  <a:pt x="360040" y="0"/>
                </a:lnTo>
                <a:lnTo>
                  <a:pt x="720080" y="360040"/>
                </a:lnTo>
                <a:lnTo>
                  <a:pt x="360040" y="720080"/>
                </a:lnTo>
                <a:lnTo>
                  <a:pt x="360040" y="540060"/>
                </a:lnTo>
                <a:lnTo>
                  <a:pt x="112512" y="540060"/>
                </a:lnTo>
                <a:close/>
              </a:path>
            </a:pathLst>
          </a:custGeom>
          <a:solidFill>
            <a:srgbClr val="e3a1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직사각형 5"/>
          <p:cNvSpPr/>
          <p:nvPr/>
        </p:nvSpPr>
        <p:spPr>
          <a:xfrm>
            <a:off x="2650320" y="5084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 정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34" descr=""/>
          <p:cNvPicPr/>
          <p:nvPr/>
        </p:nvPicPr>
        <p:blipFill>
          <a:blip r:embed="rId1"/>
          <a:stretch/>
        </p:blipFill>
        <p:spPr>
          <a:xfrm>
            <a:off x="1187280" y="1413000"/>
            <a:ext cx="6120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75"/>
          <p:cNvSpPr/>
          <p:nvPr/>
        </p:nvSpPr>
        <p:spPr>
          <a:xfrm>
            <a:off x="611280" y="714240"/>
            <a:ext cx="7129440" cy="1513080"/>
          </a:xfrm>
          <a:prstGeom prst="rect">
            <a:avLst/>
          </a:prstGeom>
          <a:solidFill>
            <a:srgbClr val="e5e5f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108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예제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결과를 토대로 생물학적으로 분해가능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한 유기물질이 산화되는 동안에 방출된 암모니아성 질소가 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히 산화되는 데 요구되는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구하고 탄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합한 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추정하라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1" name="Rectangle 76"/>
          <p:cNvSpPr/>
          <p:nvPr/>
        </p:nvSpPr>
        <p:spPr>
          <a:xfrm>
            <a:off x="611280" y="2370240"/>
            <a:ext cx="7129440" cy="3384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720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Sol.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앞 예제에 나타낸 화학양론식을 토대로 유기물질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당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2m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암모니아성 질소가 생성되며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는 질산화 식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따라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4mol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산소를 소모한다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질소계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37/127 ×(128) = 37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0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 </a:t>
            </a:r>
            <a:r>
              <a:rPr b="0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= 63+37 = 100mg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Text Box 179"/>
          <p:cNvSpPr/>
          <p:nvPr/>
        </p:nvSpPr>
        <p:spPr>
          <a:xfrm>
            <a:off x="611640" y="500040"/>
            <a:ext cx="1747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BOD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측정방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80"/>
          <p:cNvSpPr/>
          <p:nvPr/>
        </p:nvSpPr>
        <p:spPr>
          <a:xfrm>
            <a:off x="1445760" y="1158840"/>
            <a:ext cx="519156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직접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(B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7mg/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넘지 않는 시료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두 개 이상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시료를 채우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하나는 바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나머지 하나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DO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측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소 소모속도 조절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ex.) 1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는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00%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비해 산소소모속도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/10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중요 고려 사항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Text Box 183"/>
          <p:cNvSpPr/>
          <p:nvPr/>
        </p:nvSpPr>
        <p:spPr>
          <a:xfrm>
            <a:off x="1594800" y="4178160"/>
            <a:ext cx="4695120" cy="155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독성물질이 없을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알맞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삼투조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osmotic condition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유지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 가능한 보조 영양원소들이 존재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 온도를 유지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2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토양 기원의 혼합 미생물의 충분한 개체군이 존재할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Text Box 72"/>
          <p:cNvSpPr/>
          <p:nvPr/>
        </p:nvSpPr>
        <p:spPr>
          <a:xfrm>
            <a:off x="853560" y="981000"/>
            <a:ext cx="12438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 준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6" name="Text Box 73"/>
          <p:cNvSpPr/>
          <p:nvPr/>
        </p:nvSpPr>
        <p:spPr>
          <a:xfrm>
            <a:off x="942480" y="1320840"/>
            <a:ext cx="6982920" cy="11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완충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pH 7.2; A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1.75g + 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8.5g +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44.6g +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l 1.7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7" name="Text Box 74"/>
          <p:cNvSpPr/>
          <p:nvPr/>
        </p:nvSpPr>
        <p:spPr>
          <a:xfrm>
            <a:off x="1295280" y="2452680"/>
            <a:ext cx="446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마그네슘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22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8" name="Text Box 75"/>
          <p:cNvSpPr/>
          <p:nvPr/>
        </p:nvSpPr>
        <p:spPr>
          <a:xfrm>
            <a:off x="1349640" y="3298680"/>
            <a:ext cx="37461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칼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무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Ca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27.5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Text Box 76"/>
          <p:cNvSpPr/>
          <p:nvPr/>
        </p:nvSpPr>
        <p:spPr>
          <a:xfrm>
            <a:off x="1311120" y="4164120"/>
            <a:ext cx="429300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제이철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Fe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0.26g)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Text Box 55"/>
          <p:cNvSpPr/>
          <p:nvPr/>
        </p:nvSpPr>
        <p:spPr>
          <a:xfrm>
            <a:off x="1516320" y="909720"/>
            <a:ext cx="6107760" cy="310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물의 수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℃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깝게 조절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충분히 세척된 산기관에 의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존산소를 포화시킨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대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, B, C, 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각각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씩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.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아닐 때에는 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이용하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H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보정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보정시 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pH meter probe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세척 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8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황산을 서서히 저으면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산화 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 제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40g NaOH / 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56"/>
          <p:cNvSpPr/>
          <p:nvPr/>
        </p:nvSpPr>
        <p:spPr>
          <a:xfrm>
            <a:off x="1611720" y="4091040"/>
            <a:ext cx="569196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수를 이용한 바탕시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ank test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병에 희석수 만을 채운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기관을 이용하여 산소를 포화시킨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뒤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D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 간의 차이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mg/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가 되도록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산기관이 오염된 경우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, </a:t>
            </a:r>
            <a:r>
              <a:rPr b="1" lang="ko-KR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엄청난 오차 발생</a:t>
            </a:r>
            <a:r>
              <a:rPr b="1" lang="en-US" sz="1600" spc="-1" strike="noStrike" u="sng">
                <a:solidFill>
                  <a:srgbClr val="a9432b"/>
                </a:solidFill>
                <a:uFillTx/>
                <a:latin typeface="HY그래픽"/>
                <a:ea typeface="HY그래픽"/>
              </a:rPr>
              <a:t>!!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1</cp:lastModifiedBy>
  <dcterms:modified xsi:type="dcterms:W3CDTF">2011-03-08T05:21:35Z</dcterms:modified>
  <cp:revision>158</cp:revision>
  <dc:subject/>
  <dc:title>슬라이드 1</dc:title>
</cp:coreProperties>
</file>